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8.jpeg" ContentType="image/jpeg"/>
  <Override PartName="/ppt/media/image30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5.wmf" ContentType="image/x-wmf"/>
  <Override PartName="/ppt/media/image16.jpeg" ContentType="image/jpeg"/>
  <Override PartName="/ppt/media/image17.png" ContentType="image/pn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4664-E6C9-43F7-BE90-0D6DA8656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9835-6C45-467D-B5A8-1CBE34075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15E9-98FB-45C3-B1FB-2009942D4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ving things may be studied on many different level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largest and most complex level is the biosphere. The smallest level is the molecules that make up living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AAA5-52AF-47E8-91C2-1729B4B0D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ving things may be studied on many different level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largest and most complex level is the biosphere. The smallest level is the molecules that make up living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D870-D191-4FEA-8CFC-4AAADEDE2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ving things may be studied on many different level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largest and most complex level is the biosphere. The smallest level is the molecules that make up living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B256-56B0-46C7-ADEA-163E5CFA9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ving things may be studied on many different level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largest and most complex level is the biosphere. The smallest level is the molecules that make up living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56DC-D7E4-4EFB-8F5D-C92E7A20B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ving things may be studied on many different level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largest and most complex level is the biosphere. The smallest level is the molecules that make up living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A6B6-8EEF-4D53-B6A2-477134CC9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BC44-6B95-4361-A10E-E97E3AD5C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32C9-96B9-4BCD-9A77-56D70D992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tists usually use the metric system in their work. This system is easy to use because it is based on multiples of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C562-B78D-4808-8037-BC062D03A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A43F-570C-4033-972D-87280BD1D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423F-219E-4DE4-A353-3EADC6545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9B26-E271-4A6C-A92D-0AF94CF9E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DDF4-5F80-4C31-8EB2-C35545768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78D1-5946-48F1-8CAF-824BDD31C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ABC5-186D-4E15-9766-72E76FFAE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7370-141E-4C2B-9053-26B5AB4DC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F17C-C655-45EE-9EC9-4E5801DE4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A734-8AC0-4268-B1EB-2BC7CC78C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ving things may be studied on many different level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largest and most complex level is the biosphere. The smallest level is the molecules that make up living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9851-320E-4CD6-A4F4-81010F90E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ving things may be studied on many different level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largest and most complex level is the biosphere. The smallest level is the molecules that make up living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31E7-C5C8-4050-9E0A-ED855B4D7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ving things may be studied on many different level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largest and most complex level is the biosphere. The smallest level is the molecules that make up living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1CC-FB33-4428-9090-F9D2573C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ABE-5A6B-43AB-9A13-F31F177C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C73-8F4D-46AE-902A-483BFBCE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5627-2AD2-4D86-92FA-A96742F8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6471-7EC1-465A-94C2-4C3FBD30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1D98-C798-42D4-A30C-166A748D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0D94-2984-41D7-BAB2-43A7EDE8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1CC3-D354-41A9-970A-D921179F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F367-EB6B-42D6-8DFB-C1B0AA58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DC7F-5838-45E5-8646-DC78B62F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7991-26B5-4657-A1B6-B63F0230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554D-AD3C-473E-A00F-E9088CEB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147C-48B2-42FA-92E3-A7112391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85CC-3765-46DD-B93C-BDCBF8B5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3A56-844E-45BC-9B61-8CB617EE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0FE0-940B-47FF-91CE-7371DF46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AC8F-6AA3-4B53-9E6A-66AA2A58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CB9EA-B201-4E15-BD18-53DE761B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DA433-B3B1-49FB-BA94-9D473B5A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06F52-0956-46BE-8F58-5A58A09A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05FBE-65BE-48D6-BEA4-422F91D7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7E4C1-220D-4061-9F48-1FFEA1B9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CDCE-4AD3-4E15-BE47-490291D2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114F0-9E3F-43C1-8D12-74BCB61D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EE398-E2C3-431D-8C4F-AA6C1C5C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B8AFB-1B71-46FD-B779-1674BC70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45F6C-D695-4E07-9209-18166934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88D71-7342-4F11-BA84-342952E3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2D67-4533-45CC-82F8-314643FC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FB6CC-BE8E-4423-807B-F4D289EC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B2578-B4F2-4526-978D-7E75BD81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0B068-C21C-4A21-A14D-42F2BE97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B9C5F-ADAE-4F62-91A7-E6BCCBC5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A9D6-3D13-40C2-B1BE-7164B380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A153D-C615-40DB-BE87-E62DD3F2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C1ACB-F09E-4E88-846D-38501356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EB318-6059-4BBF-8DBB-52D8FBF0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88CEF-CCB6-48C9-95FC-38D2CA1C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AE6E9-AE62-48A7-8AFD-B082F05A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50B18-5702-4391-8004-5F169849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12377-DE4A-4F5E-A572-BF4F898A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3560C-BC7C-4F64-BFC8-EDA6F405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A397D-6663-4C9B-8581-ACEC6B58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AA25-6AE8-4425-8145-2836DF34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B64-3274-4EEF-A46A-2BDF3AA2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B891-A5B9-404C-B5C1-7256A80B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B24-2F39-4E30-8E10-6A4ABB52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FA9-3342-41F9-A129-FA56301F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Users\Alex\Desktop\Send Back to FTP\LO banner art\BIO10NAE_01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5B2C-49CB-4CE0-B6CA-D625B720EE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0FF8-1113-4107-A6B0-6F0D09CD1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tudying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C:\Users\Alex\Desktop\Send Back to FTP\LO banner art\BIO10NAE_01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  <p:sp>
        <p:nvSpPr>
          <p:cNvPr id="45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tudying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Alex\Desktop\Send Back to FTP\LO banner art\BIO10NAE_28_LOTB.jpg"/>
          <p:cNvPicPr/>
          <p:nvPr/>
        </p:nvPicPr>
        <p:blipFill>
          <a:blip r:embed="rId3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Alex\Desktop\Send Back to FTP\LO banner art\BIO10NAE_01_LOTB.jpg"/>
          <p:cNvPicPr/>
          <p:nvPr/>
        </p:nvPicPr>
        <p:blipFill>
          <a:blip r:embed="rId4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6BA1-60E0-4353-ADC9-82FC3D7F2A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8397-9925-4F40-99CE-369B4DB1A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" descr="C:\Users\Alex\Desktop\Send Back to FTP\LO banner art\BIO10NAE_01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  <p:sp>
        <p:nvSpPr>
          <p:cNvPr id="91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tudying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706E-B391-460C-8023-F40A645F6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0" descr="C:\Users\Alex\Desktop\Send Back to FTP\LO banner art\BIO10NAE_01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  <p:sp>
        <p:nvSpPr>
          <p:cNvPr id="135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tudying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97E8-6F08-41C5-BD9A-9BC9D2E92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Bell Rin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fine the following term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Variable: 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nt Variable: 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Levels of Stu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 living t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6" descr="sb4938f1_05"/>
          <p:cNvPicPr/>
          <p:nvPr/>
        </p:nvPicPr>
        <p:blipFill>
          <a:blip r:embed="rId1"/>
          <a:stretch/>
        </p:blipFill>
        <p:spPr>
          <a:xfrm>
            <a:off x="271440" y="2666880"/>
            <a:ext cx="8629560" cy="26402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7"/>
          <p:cNvSpPr/>
          <p:nvPr/>
        </p:nvSpPr>
        <p:spPr>
          <a:xfrm>
            <a:off x="4161240" y="5904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1" descr=""/>
          <p:cNvPicPr/>
          <p:nvPr/>
        </p:nvPicPr>
        <p:blipFill>
          <a:blip r:embed="rId2"/>
          <a:stretch/>
        </p:blipFill>
        <p:spPr>
          <a:xfrm>
            <a:off x="125280" y="2662200"/>
            <a:ext cx="88934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9" descr="sb4938f1_04"/>
          <p:cNvPicPr/>
          <p:nvPr/>
        </p:nvPicPr>
        <p:blipFill>
          <a:blip r:embed="rId1"/>
          <a:stretch/>
        </p:blipFill>
        <p:spPr>
          <a:xfrm>
            <a:off x="225360" y="2682720"/>
            <a:ext cx="8629560" cy="26402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Levels of Stu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up of organisms of one type that live in the sam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3872880" y="53910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son he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"/>
          <p:cNvPicPr/>
          <p:nvPr/>
        </p:nvPicPr>
        <p:blipFill>
          <a:blip r:embed="rId2"/>
          <a:stretch/>
        </p:blipFill>
        <p:spPr>
          <a:xfrm>
            <a:off x="125280" y="2662200"/>
            <a:ext cx="88934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Levels of Stu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tions that live together in a defined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6" descr="sb4938f1_03"/>
          <p:cNvPicPr/>
          <p:nvPr/>
        </p:nvPicPr>
        <p:blipFill>
          <a:blip r:embed="rId1"/>
          <a:stretch/>
        </p:blipFill>
        <p:spPr>
          <a:xfrm>
            <a:off x="182520" y="2685960"/>
            <a:ext cx="8718480" cy="25909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2317320" y="5308560"/>
            <a:ext cx="449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wk, snake, bison, prairie dog, g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2"/>
          <a:stretch/>
        </p:blipFill>
        <p:spPr>
          <a:xfrm>
            <a:off x="125280" y="2662200"/>
            <a:ext cx="88934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Levels of Stu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4216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co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y and its nonliving surroun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6" descr="sb4938f1_02"/>
          <p:cNvPicPr/>
          <p:nvPr/>
        </p:nvPicPr>
        <p:blipFill>
          <a:blip r:embed="rId1"/>
          <a:stretch/>
        </p:blipFill>
        <p:spPr>
          <a:xfrm>
            <a:off x="257040" y="2703600"/>
            <a:ext cx="8629920" cy="26384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7"/>
          <p:cNvSpPr/>
          <p:nvPr/>
        </p:nvSpPr>
        <p:spPr>
          <a:xfrm>
            <a:off x="1317960" y="5380200"/>
            <a:ext cx="65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wk, snake, bison, prairie dog, grass, stream, rocks,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2"/>
          <a:stretch/>
        </p:blipFill>
        <p:spPr>
          <a:xfrm>
            <a:off x="125280" y="2662200"/>
            <a:ext cx="88934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Levels of Stu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rt of Earth that contains all eco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12" descr="sb4938f1_01"/>
          <p:cNvPicPr/>
          <p:nvPr/>
        </p:nvPicPr>
        <p:blipFill>
          <a:blip r:embed="rId1"/>
          <a:stretch/>
        </p:blipFill>
        <p:spPr>
          <a:xfrm>
            <a:off x="328680" y="2698920"/>
            <a:ext cx="8372520" cy="2763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"/>
          <p:cNvPicPr/>
          <p:nvPr/>
        </p:nvPicPr>
        <p:blipFill>
          <a:blip r:embed="rId2"/>
          <a:stretch/>
        </p:blipFill>
        <p:spPr>
          <a:xfrm>
            <a:off x="125280" y="2662200"/>
            <a:ext cx="88934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A Common Measurement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72520" y="1371240"/>
            <a:ext cx="8269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scientists us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ric syste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collecting data and performing experi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243684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A Common Measurement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ric system is based on multiples of 10 so it is easy to u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0" y="2552760"/>
            <a:ext cx="2870280" cy="4305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2"/>
          <a:srcRect l="8633" t="22384" r="0" b="0"/>
          <a:stretch/>
        </p:blipFill>
        <p:spPr>
          <a:xfrm>
            <a:off x="3705120" y="3479760"/>
            <a:ext cx="47800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A Common Measurement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5" descr="sb4939f1"/>
          <p:cNvPicPr/>
          <p:nvPr/>
        </p:nvPicPr>
        <p:blipFill>
          <a:blip r:embed="rId1"/>
          <a:stretch/>
        </p:blipFill>
        <p:spPr>
          <a:xfrm>
            <a:off x="304920" y="1752480"/>
            <a:ext cx="864216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Tempera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10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Measured in degrees Celsi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Measured with a thermome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2133720" y="3124080"/>
            <a:ext cx="483876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Volu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791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d in liters (usually milliliter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d with a Graduated Cyli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the volume at the meniscus (Bottom of cur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use%20a%20cylinder%20right.MPG" descr=""/>
          <p:cNvPicPr/>
          <p:nvPr/>
        </p:nvPicPr>
        <p:blipFill>
          <a:blip r:embed="rId1"/>
          <a:stretch/>
        </p:blipFill>
        <p:spPr>
          <a:xfrm>
            <a:off x="5943600" y="990720"/>
            <a:ext cx="2570040" cy="2079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http://upload.wikimedia.org/wikipedia/commons/4/4e/Meniscus.jpg"/>
          <p:cNvPicPr/>
          <p:nvPr/>
        </p:nvPicPr>
        <p:blipFill>
          <a:blip r:embed="rId2"/>
          <a:stretch/>
        </p:blipFill>
        <p:spPr>
          <a:xfrm>
            <a:off x="6248520" y="3276720"/>
            <a:ext cx="20048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Bell Rin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72520" y="1600200"/>
            <a:ext cx="8293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do scientists all around the world use the metric system when they do experi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Leng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d in meters (also commonly measured in centimeter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d with a ruler, meter stick, or measuring tap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 rot="18942000">
            <a:off x="2476080" y="3809520"/>
            <a:ext cx="666756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a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4572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d in 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d with a digital scale or a four beam 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572000" y="304920"/>
            <a:ext cx="4095720" cy="2590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029200" y="3124080"/>
            <a:ext cx="3632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Microsco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croscop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devices that produce magnified images of structures that are too small to see with the unaided ey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1"/>
          <a:stretch/>
        </p:blipFill>
        <p:spPr>
          <a:xfrm>
            <a:off x="1512720" y="3316320"/>
            <a:ext cx="2014560" cy="3541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4192560" y="2971800"/>
            <a:ext cx="406080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Microsco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72880" y="1523880"/>
            <a:ext cx="85471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Light Microsco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commonly used microscope is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ght microsco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ght microscopes produce clear images of objects at a magnification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bout 1000 tim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1143000" y="3886200"/>
            <a:ext cx="153828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Microsco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und light microscop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low light to pass through the specimen and use two lenses to form an im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20145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Microsco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72880" y="1676520"/>
            <a:ext cx="854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Electron Microsco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scientists need to study even smaller objects, scientists us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n microscop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using electron microscopes the specimen must be preserved and dehydrated before they are placed in the microscop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7010280" y="4038480"/>
            <a:ext cx="1908360" cy="23353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2222640" cy="2041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3"/>
          <a:stretch/>
        </p:blipFill>
        <p:spPr>
          <a:xfrm>
            <a:off x="6781680" y="0"/>
            <a:ext cx="2357640" cy="1935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http://upload.wikimedia.org/wikipedia/commons/a/a4/Misc_pollen.jpg"/>
          <p:cNvPicPr/>
          <p:nvPr/>
        </p:nvPicPr>
        <p:blipFill>
          <a:blip r:embed="rId4"/>
          <a:stretch/>
        </p:blipFill>
        <p:spPr>
          <a:xfrm>
            <a:off x="3276720" y="4191120"/>
            <a:ext cx="3124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6" descr=""/>
          <p:cNvPicPr/>
          <p:nvPr/>
        </p:nvPicPr>
        <p:blipFill>
          <a:blip r:embed="rId1"/>
          <a:stretch/>
        </p:blipFill>
        <p:spPr>
          <a:xfrm>
            <a:off x="981000" y="357984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Laboratory Techniq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Cell Cul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ingle cell is able to reproduce to form a group of cells, called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ll cult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5" descr=""/>
          <p:cNvPicPr/>
          <p:nvPr/>
        </p:nvPicPr>
        <p:blipFill>
          <a:blip r:embed="rId2"/>
          <a:stretch/>
        </p:blipFill>
        <p:spPr>
          <a:xfrm>
            <a:off x="4419720" y="3505320"/>
            <a:ext cx="352404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Bell Rin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72520" y="1599840"/>
            <a:ext cx="8293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the 4 scientific attitudes that all scientists have in comm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C:\Users\Alex\Desktop\Send Back to FTP\LO stills - splash screens\BIO10NAE_24_CTBG.jpg"/>
          <p:cNvPicPr/>
          <p:nvPr/>
        </p:nvPicPr>
        <p:blipFill>
          <a:blip r:embed="rId1"/>
          <a:stretch/>
        </p:blipFill>
        <p:spPr>
          <a:xfrm>
            <a:off x="228600" y="198360"/>
            <a:ext cx="4954680" cy="63547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181120" y="2133360"/>
            <a:ext cx="39625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Arial"/>
                <a:ea typeface="Arial"/>
              </a:rPr>
              <a:t>Lesson 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028840" y="3219480"/>
            <a:ext cx="426708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3 Studying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aily 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the characteristics that all living things sh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central themes of biolo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ain how life can be studied at different lev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Levels of Stu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of the levels at which life can be studied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i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Levels of Stu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ups of atoms; smallest unit of most chemical comp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2" descr="sb4938f1_08"/>
          <p:cNvPicPr/>
          <p:nvPr/>
        </p:nvPicPr>
        <p:blipFill>
          <a:blip r:embed="rId1"/>
          <a:stretch/>
        </p:blipFill>
        <p:spPr>
          <a:xfrm>
            <a:off x="243000" y="2685960"/>
            <a:ext cx="8629560" cy="2640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3"/>
          <p:cNvSpPr/>
          <p:nvPr/>
        </p:nvSpPr>
        <p:spPr>
          <a:xfrm>
            <a:off x="2719440" y="4879800"/>
            <a:ext cx="44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                                         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5" descr=""/>
          <p:cNvPicPr/>
          <p:nvPr/>
        </p:nvPicPr>
        <p:blipFill>
          <a:blip r:embed="rId2"/>
          <a:stretch/>
        </p:blipFill>
        <p:spPr>
          <a:xfrm>
            <a:off x="125280" y="2662200"/>
            <a:ext cx="88934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Levels of Stu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est functional unit of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7" descr="sb4938f1_07"/>
          <p:cNvPicPr/>
          <p:nvPr/>
        </p:nvPicPr>
        <p:blipFill>
          <a:blip r:embed="rId1"/>
          <a:stretch/>
        </p:blipFill>
        <p:spPr>
          <a:xfrm>
            <a:off x="285840" y="2681280"/>
            <a:ext cx="8629560" cy="26398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8"/>
          <p:cNvSpPr/>
          <p:nvPr/>
        </p:nvSpPr>
        <p:spPr>
          <a:xfrm>
            <a:off x="3914640" y="48895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2"/>
          <a:stretch/>
        </p:blipFill>
        <p:spPr>
          <a:xfrm>
            <a:off x="125280" y="2662200"/>
            <a:ext cx="88934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Levels of Stu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oups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ssues, organs, and organ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13" descr="sb4938f1_06"/>
          <p:cNvPicPr/>
          <p:nvPr/>
        </p:nvPicPr>
        <p:blipFill>
          <a:blip r:embed="rId1"/>
          <a:stretch/>
        </p:blipFill>
        <p:spPr>
          <a:xfrm>
            <a:off x="257040" y="2689200"/>
            <a:ext cx="8629920" cy="26398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4"/>
          <p:cNvSpPr/>
          <p:nvPr/>
        </p:nvSpPr>
        <p:spPr>
          <a:xfrm>
            <a:off x="977760" y="4808520"/>
            <a:ext cx="73756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vous tissue                     Brain                       Nervou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8" descr=""/>
          <p:cNvPicPr/>
          <p:nvPr/>
        </p:nvPicPr>
        <p:blipFill>
          <a:blip r:embed="rId2"/>
          <a:stretch/>
        </p:blipFill>
        <p:spPr>
          <a:xfrm>
            <a:off x="125280" y="2662200"/>
            <a:ext cx="88934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8:45:33Z</dcterms:created>
  <dc:creator>Alex</dc:creator>
  <dc:description/>
  <dc:language>en-US</dc:language>
  <cp:lastModifiedBy>dzahm</cp:lastModifiedBy>
  <dcterms:modified xsi:type="dcterms:W3CDTF">2013-09-17T14:43:29Z</dcterms:modified>
  <cp:revision>135</cp:revision>
  <dc:subject/>
  <dc:title>Slide 1</dc:title>
</cp:coreProperties>
</file>